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F7E7-09C1-49BE-8603-ABB5BFB049A3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E6D-F2FE-43BB-9FA0-21FB4DB0C0C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846-2565-488E-A8A9-A36C1CB5B7E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arthdata.nasa.gov/sites/default/files/field/document/NASA_ESD_Preservation_Spec.pdf" TargetMode="External"/><Relationship Id="rId2" Type="http://schemas.openxmlformats.org/officeDocument/2006/relationships/hyperlink" Target="http://earthdata.nasa.gov/sites/default/files/field/document/NASA ESD Base Metadata Requirements_V1_20110922_0.pdf" TargetMode="External"/><Relationship Id="rId3" Type="http://schemas.openxmlformats.org/officeDocument/2006/relationships/hyperlink" Target="http://www.fgdc.gov/metadata" TargetMode="External"/><Relationship Id="rId4" Type="http://schemas.openxmlformats.org/officeDocument/2006/relationships/hyperlink" Target="http://www.fgdc.gov/metadata" TargetMode="External"/><Relationship Id="rId5" Type="http://schemas.openxmlformats.org/officeDocument/2006/relationships/hyperlink" Target="http://www.fgdc.gov/metadata" TargetMode="External"/><Relationship Id="rId6" Type="http://schemas.openxmlformats.org/officeDocument/2006/relationships/hyperlink" Target="http://gcmd.nasa.gov/" TargetMode="External"/><Relationship Id="rId7" Type="http://schemas.openxmlformats.org/officeDocument/2006/relationships/hyperlink" Target="http://gcmd.nasa.gov/" TargetMode="External"/><Relationship Id="rId8" Type="http://schemas.openxmlformats.org/officeDocument/2006/relationships/hyperlink" Target="http://www.gsdi.org/pubs/cookbook/chapter03a.html" TargetMode="External"/><Relationship Id="rId9" Type="http://schemas.openxmlformats.org/officeDocument/2006/relationships/hyperlink" Target="http://www.loc.gov/standards/premis/" TargetMode="External"/><Relationship Id="rId10" Type="http://schemas.openxmlformats.org/officeDocument/2006/relationships/hyperlink" Target="http://www.loc.gov/standards/premis/" TargetMode="External"/><Relationship Id="rId11" Type="http://schemas.openxmlformats.org/officeDocument/2006/relationships/hyperlink" Target="http://www.loc.gov/standards/premis/" TargetMode="External"/><Relationship Id="rId12" Type="http://schemas.openxmlformats.org/officeDocument/2006/relationships/hyperlink" Target="http://www.dlib.org/dlib/september11/shaon/09shaon.print.html" TargetMode="External"/><Relationship Id="rId13" Type="http://schemas.openxmlformats.org/officeDocument/2006/relationships/hyperlink" Target="http://www.ngda.org/reports/InvestigateGeoDataFinal_v2.pdf" TargetMode="External"/><Relationship Id="rId14" Type="http://schemas.openxmlformats.org/officeDocument/2006/relationships/hyperlink" Target="http://storageconference.org/2004/Papers/05-Duerr-a.pdf" TargetMode="External"/><Relationship Id="rId15" Type="http://schemas.openxmlformats.org/officeDocument/2006/relationships/hyperlink" Target="http://geopreservation.org/topicResults.jsp?types=8" TargetMode="External"/><Relationship Id="rId16" Type="http://schemas.openxmlformats.org/officeDocument/2006/relationships/hyperlink" Target="http://geopreservation.org/topicResults.jsp?types=8" TargetMode="External"/><Relationship Id="rId17" Type="http://schemas.openxmlformats.org/officeDocument/2006/relationships/hyperlink" Target="http://geopreservation.org/topicResults.jsp?types=8" TargetMode="External"/><Relationship Id="rId1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828440"/>
            <a:ext cx="1088388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Local Data Managemen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 Light"/>
              </a:rPr>
              <a:t>Creating Documentation &amp;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4952520"/>
            <a:ext cx="4241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ncy Hoebelheinri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Knowledge Motifs LLC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hoebel@kmotifs.co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7645320" y="4952880"/>
            <a:ext cx="492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Data Management Workshop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American Geophysical Union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 Light"/>
              </a:rPr>
              <a:t>Tuesday, 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&amp; Citation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convey to the user the nature and content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help the user determine if a particular data set meets the users’ need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provide the information necessary to create a citation for the data se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ed to “feed” data catalogs / libraries, information portals, citation system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n be used to describe or trigger restriction on access to data, and on use of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escriptive information that provides essential information to meet the key first question (primarily,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finding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an be applied at / describe different levels, i.e., “collection”, data set, and item leve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Will usually contain less information than other types of metadata (i.e. use metadata, granule metadata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hould use a controlled keyword vocabulary to provide normalized discovery of data (expressed in various ways, e.g., thesauri, ontologies, etc.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5" name="Content Placeholder 4" descr=""/>
          <p:cNvPicPr/>
          <p:nvPr/>
        </p:nvPicPr>
        <p:blipFill>
          <a:blip r:embed="rId1"/>
          <a:stretch/>
        </p:blipFill>
        <p:spPr>
          <a:xfrm>
            <a:off x="420840" y="2316240"/>
            <a:ext cx="121428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8636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78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79" name=""/>
          <p:cNvSpPr txBox="1"/>
          <p:nvPr/>
        </p:nvSpPr>
        <p:spPr>
          <a:xfrm>
            <a:off x="57168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0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eservation / Archiv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is it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long-term usability of digital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support the digital preservation process of a data archive or reposi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record information not covered by other metadata schemes that are useful for and/or collected by a data archiv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  A work in process!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any international and interdisciplinary efforts to define what is required in terms of metadata schemes from abstract to concrete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OAIS Reference Model (OAIS RM) – generic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MIS:  A generic approach coming from digital archives &amp; libraries (based on OAIS RM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GDC &amp; ISO 19115-2 (includes more than “preservation” metadata, but applied more directly to spatial &amp; earth science da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Preservation / Arch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Metadata based on OAIS R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“content information” -- a set of information to be preserved over time –” aka “digital object” (DO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For a “designated community” or knowledge base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is is where content specifications and  application profiles of metadata schemes come into play, e.g., NASA Content Specification for Earth Science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reservation Description Information (PDI)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What is needed to efficiently manage &amp; preserve a DO over tim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epresentative Information (RI)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to be able to view or “render” the DO in future technical environm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Best guesses as to what will be needed for correct semantic interpretation of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Packaging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Means for binding DO incl its MD into an identifiable unit for transfer and/or exchang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escriptive Informa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eeded to facilitate efficient discovery &amp; accessibility of preserved DO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existing metadata schemes to see if enough preservation MD is includ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nalyses of whether / how data repository infrastructures accommodate preservation / archivin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ent analysis of what preservation MD is needed beyond ISO 19115-2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Shaon &amp; Wolfe, D-Lib Magazine, Sept/Oct 2011.  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parison of PREMIS v1, FGDC &amp; CIESIN’s Geospatial Electronic Records for the Library of Congress’ NGDA Projec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Hoebelheinrich &amp; Banning.  2008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Broad discussion of MD needs for preservation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uerr, et al 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Preservation / Archiving metadat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a work in progress!!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ptions for incorporating preservation MD into data set metadata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ols – commercial &amp; open sourc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ed to TEST whether what is called for is truly needed, e.g.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IMPORTANT NOT JUST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BACKUP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, BUT ALSO TO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ESTOR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!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7035480" y="2324160"/>
            <a:ext cx="53974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Helvetica Neue"/>
              </a:rPr>
              <a:t>Metadata Creation / editing tool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ArcGIS tool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PA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MetaGenie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DBFmeta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USGS FGDC Metadata Editor for ArcGIS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INSPIRE Geoportal Metadata Editor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Etc., etc.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06060"/>
                </a:solidFill>
                <a:latin typeface="Helvetica Neue"/>
              </a:rPr>
              <a:t>See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CIESIN’s Geospatial Data Preservation  Clearinghouse for more information (e.g., topic search on Preservation metadata for geospatial dat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Nov 2011). 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sites/default/files/field/document/NASA_ESD_Preservation_Spec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SA, 2011:  Metadata Requirements – Base Reference for NASA Earth Science Data Products, (Nov 2011). 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earthdata.nasa.gov/sites/default/files/field/document/NASA%20ESD%20Base%20Metadata%20Requirements_V1_20110922_0.pdf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Federal Geographic Data Committee (FGDC). Geospatial Metadata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www.fgdc.go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5"/>
              </a:rPr>
              <a:t>/metadata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National Aeronautics and Space Administration (NASA). Global Change Master Directory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7"/>
              </a:rPr>
              <a:t>gcmd.nasa.gov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Taylor, Mark. 2000. “Developing Spatial Data Infrastructures – The SDI Cookbook”. Global Spatial Data Infrastructure Association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8"/>
              </a:rPr>
              <a:t>http://www.gsdi.org/pubs/cookbook/chapter03a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Preservation Metadata (PREMIS).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0"/>
              </a:rPr>
              <a:t>www.loc.gov/standards/premi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1"/>
              </a:rPr>
              <a:t>/ 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Shaon &amp; Woolfe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Long-term Preservation for Spatial Data Infrastructures:  a Metadata Framework and Geo-portal Implementation”,  D-Lib Magazine, September/October 2011. doi:10.1045/september2011-shaon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2"/>
              </a:rPr>
              <a:t>http://www.dlib.org/dlib/september11/shaon/09shaon.print.html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Hoebelheinrich &amp; Banning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An Investigation into Metadata for Long-Lived Geospatial Data Formats”,  2008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3"/>
              </a:rPr>
              <a:t>http://www.ngda.org/reports/InvestigateGeoDataFinal_v2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Duerr et al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, “Challenges in Long-Term Data Stewardship”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4"/>
              </a:rPr>
              <a:t>http://storageconference.org/2004/Papers/05-Duerr-a.pdf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Helvetica Neue"/>
              </a:rPr>
              <a:t>Geospatial Data Preservation Clearinghouse.  CIESEN at Columbia University. Search for Preservation Metadata: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5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6"/>
              </a:rPr>
              <a:t>geopreservation.org/topicResults.jsp?type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hlinkClick r:id="rId17"/>
              </a:rPr>
              <a:t>=8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case for data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servation Strateg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module is designed to provide a broad overview of metadata (MD) &amp; documentation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:  Data Stewardship princip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ill includ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cussion of distinction b/w MD and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ypes of MD, and why need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Why are MD &amp; documentation important?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Lovely, isn’t it??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Think we could find anything? 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point anyone else to your campsite?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   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Or explain why you chose </a:t>
            </a:r>
            <a:r>
              <a:rPr b="0" i="1" lang="en-US" sz="3100" spc="-1" strike="noStrike">
                <a:solidFill>
                  <a:srgbClr val="ffffff"/>
                </a:solidFill>
                <a:latin typeface="Helvetica Neue"/>
              </a:rPr>
              <a:t>THAT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"/>
              </a:rPr>
              <a:t>What if you wanted to restrict access to your campsite?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"/>
          <p:cNvSpPr/>
          <p:nvPr/>
        </p:nvSpPr>
        <p:spPr>
          <a:xfrm>
            <a:off x="8788320" y="3200400"/>
            <a:ext cx="3200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rcRect l="0" t="31618" r="21570" b="7111"/>
          <a:stretch/>
        </p:blipFill>
        <p:spPr>
          <a:xfrm>
            <a:off x="0" y="2209680"/>
            <a:ext cx="13004640" cy="762012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The role of metadata and documentation in data management is to facilitate for </a:t>
            </a:r>
            <a:r>
              <a:rPr b="0" i="1" lang="en-US" sz="3400" spc="-1" strike="noStrike">
                <a:solidFill>
                  <a:srgbClr val="ffffff"/>
                </a:solidFill>
                <a:latin typeface="Helvetica Neue"/>
              </a:rPr>
              <a:t>you, the scientist</a:t>
            </a:r>
            <a:r>
              <a:rPr b="0" lang="en-US" sz="3400" spc="-1" strike="noStrike">
                <a:solidFill>
                  <a:srgbClr val="ffffff"/>
                </a:solidFill>
                <a:latin typeface="Helvetica Neue"/>
              </a:rPr>
              <a:t>, and the data archive ---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king sure you get credit for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Providing provenance &amp; context for use &amp; re-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Finding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Allowing &amp; restricting acces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</a:rPr>
              <a:t>Managing &amp; preserving your data for the long 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kind of MD &amp; docum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is needed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654600" y="236232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ovenance &amp; Context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for use &amp; re-us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Discovery</a:t>
            </a: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 including: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itation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ccess &amp; use restrictions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6060"/>
                </a:solidFill>
                <a:latin typeface="Helvetica Neue"/>
              </a:rPr>
              <a:t>Preservation / Archiving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58360" y="2285640"/>
            <a:ext cx="585468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Negotiated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b/w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&amp; your team (data producers)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nd the data archiv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Created / collected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as part of workflows associated with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lifecycle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of the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Based on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key questions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ow will I and others find my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will future scientists need to know to re-use the data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at does the archive need from the data producer team (as the ones who know the data best) in order to preserve it for the long term? 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Distinction b/w “metadata” &amp; “documentation”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09256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tadata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Question &amp; Answer Gam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sing 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standards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(other people’s questions based on community agreement),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he data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rchive asks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you &amp; your project team ques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you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&amp; your project team (try to)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nswer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‘em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as best you can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578280" y="2323800"/>
            <a:ext cx="5854680" cy="422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8" name=""/>
          <p:cNvSpPr/>
          <p:nvPr/>
        </p:nvSpPr>
        <p:spPr>
          <a:xfrm>
            <a:off x="6578640" y="2362320"/>
            <a:ext cx="554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Documentation: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ometimes called “</a:t>
            </a: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content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” specification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ddresses some key questions (#2 &amp; 3 on previous slide’s list) -- </a:t>
            </a:r>
            <a:r>
              <a:rPr b="1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Helvetica Neue"/>
              </a:rPr>
              <a:t>Representation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will change from discipline to discipline and project to project (i.e., what form the documentation will take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1092240" y="7315200"/>
            <a:ext cx="1112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re may b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overlap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b/w these two depending upon who is speakin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y needed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document authenticity &amp; reliabili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understand any possible biases in the 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o ensure repeatability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or re-use:  helps decide whether to choose data and/or or how it can / should be combin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ascertain whether data has been updated, corrected or corrupted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To ensure that potential differences among datasets are accounted for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What is it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Who, what, when, where, why &amp; how details about the 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cords details during the data lifecycle from creating / collecting to final analysi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processing steps such as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transformatio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tandard algorithms, libraries or other tools including source, version &amp; dat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uidance can come from published (discipline-specific) specifications and/ or metadata standards (such as ISO 19115-2, FGDC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54760" y="2590560"/>
            <a:ext cx="737856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published Nov 2011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)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Focused upon earth science data resulting from NASA’s missio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es reference to a separate Metadata Requirements document for NASA Earth Science data produc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ategorizes content into 8 areas: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flight/Pre-Operations Calibration, Science Data Products, Science Data Product Documentation, Mission Data Calibration, Science Data Product Software, Science Data Product Algorithm Input, Science Data Product Validation &amp; Science Data Software Tools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escribes </a:t>
            </a:r>
            <a:r>
              <a:rPr b="1" lang="en-US" sz="20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 for each, see exampl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5" name="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6" name="Rectangle 3" descr="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rovenance &amp; Context 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444920" y="2590560"/>
            <a:ext cx="798840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Preflight/Pre-Operations Calibration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- 3.1.2 Preflight/Pre-operational Calibration 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Item Description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</a:t>
            </a: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Numeric (digital data) files of Instrument/sensor characteristic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605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cluding pre-flight or pre-operational performance measurements (e.g., spectral response, instrument geometric calibration (geo-location offsets), noise characteristics, etc.).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Rational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: Measurements made before deploying instruments in space (or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in situ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) will help establish a baseline 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"/>
          <p:cNvSpPr/>
          <p:nvPr/>
        </p:nvSpPr>
        <p:spPr>
          <a:xfrm>
            <a:off x="406440" y="22096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A Discipline Specific Example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0" name="Rectangle 3" descr=""/>
          <p:cNvPicPr/>
          <p:nvPr/>
        </p:nvPicPr>
        <p:blipFill>
          <a:blip r:embed="rId1"/>
          <a:stretch/>
        </p:blipFill>
        <p:spPr>
          <a:xfrm>
            <a:off x="863640" y="4724280"/>
            <a:ext cx="3017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Nancy Hoebelheinrich</cp:lastModifiedBy>
  <dcterms:modified xsi:type="dcterms:W3CDTF">2011-12-05T01:34:52Z</dcterms:modified>
  <cp:revision>62</cp:revision>
  <dc:subject/>
  <dc:title>ESIP Federation 101</dc:title>
</cp:coreProperties>
</file>